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98275"/>
        <c:axId val="28165447"/>
      </c:barChart>
      <c:catAx>
        <c:axId val="78698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65447"/>
        <c:crosses val="autoZero"/>
        <c:auto val="1"/>
        <c:lblAlgn val="ctr"/>
        <c:lblOffset val="100"/>
        <c:noMultiLvlLbl val="0"/>
      </c:catAx>
      <c:valAx>
        <c:axId val="2816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8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360-0995-4243-86BC-FEFA86D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834-99CC-416B-89AE-33F8FA4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F23-2B41-47C1-ABF6-1543BFB0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263-FCE1-42A3-A1E5-95CFFBC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426-D3D3-470F-9C3A-AED5D6A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4E6-5B12-4F60-84CF-163E8500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189-DF94-4784-B35C-0D1FD2F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043-B607-4B8E-8CA0-15B7863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EA8-43F9-4A10-A4F0-5F5306C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D1B-7022-4AD2-897C-B006FBD7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4E1-C4D5-4059-A40E-51CFB42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ABC-FB87-4286-8D58-6B68BAD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9004D-A844-4402-997F-340186E2E9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