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40400"/>
        <c:axId val="44119699"/>
      </c:barChart>
      <c:catAx>
        <c:axId val="33140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19699"/>
        <c:crosses val="autoZero"/>
        <c:auto val="1"/>
        <c:lblAlgn val="ctr"/>
        <c:lblOffset val="100"/>
        <c:noMultiLvlLbl val="0"/>
      </c:catAx>
      <c:valAx>
        <c:axId val="44119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40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101A-5520-42D5-9B66-5F3D0551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C49-2CC0-4731-8093-800CBBFE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A89-05A0-4E88-9833-C5FB076F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FB2-F723-4040-A3CF-0210696C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D64-F21C-427F-9389-B2D5C1E1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208-A192-43C3-994F-433956AC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055-DC0F-406B-9E63-3E734A0A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2D8-9EAE-4F91-ADD8-67BBA376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7E2-0A10-40BD-8B05-4A0902D1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0BDA-00D6-4A19-846C-60E9A1B5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B2EF-2240-4B36-8605-183245AA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606-6723-4723-B0E9-0D454884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A8519-29D7-4633-8B50-8727E81E51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