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93309"/>
        <c:axId val="99158749"/>
      </c:barChart>
      <c:catAx>
        <c:axId val="91093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58749"/>
        <c:crosses val="autoZero"/>
        <c:auto val="1"/>
        <c:lblAlgn val="ctr"/>
        <c:lblOffset val="100"/>
        <c:noMultiLvlLbl val="0"/>
      </c:catAx>
      <c:valAx>
        <c:axId val="99158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93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89E-E7C1-4466-B819-A5242E02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267-6982-4FED-A90B-8AE79B29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BB7-9F5B-46FF-A10A-798D1195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F9E-1A56-452F-8205-13AB4722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523-C6BD-4D5A-9308-ABC47F6B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854-548A-4A1C-894C-CF1E7DA2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DB9-61F7-4CC8-9FF3-A9B9A92E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CE1-270F-4408-80B4-519AAEC0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7AC-5AC2-49C6-8532-8F4C2B0C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DE4-34EB-43B4-8AEE-DE792B2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EF1-674B-48B0-A0E9-7E624F4C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8B5-1AFF-498E-850E-A9A82CB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67208-D4AE-4A81-AC2D-699A83A8AB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