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50227"/>
        <c:axId val="38941791"/>
      </c:barChart>
      <c:catAx>
        <c:axId val="55350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41791"/>
        <c:crosses val="autoZero"/>
        <c:auto val="1"/>
        <c:lblAlgn val="ctr"/>
        <c:lblOffset val="100"/>
        <c:noMultiLvlLbl val="0"/>
      </c:catAx>
      <c:valAx>
        <c:axId val="38941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50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BE6-E21A-4BD5-B19C-CF35205C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3C7-7546-48CB-A34C-1862F37F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592-A1A1-4513-B450-B8E22273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1E9-5089-462B-B2AD-1DBE234C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72F-598E-4813-A6A1-7C81159C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33F-32F1-4122-8B87-0D9C4B14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A7B-B44B-4987-9F1A-F16778F4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57A-C409-4529-860E-7717403A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1DA-07C3-4307-BA28-0861F0B1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46D-239E-466F-B793-619CD144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65F-3322-44A7-A207-499AA474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95F-136A-4ABB-9EEA-A4CE13ED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FD509-B3B1-4CF9-B499-4A3A957E2C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