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24213"/>
        <c:axId val="81360436"/>
      </c:barChart>
      <c:catAx>
        <c:axId val="34124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60436"/>
        <c:crosses val="autoZero"/>
        <c:auto val="1"/>
        <c:lblAlgn val="ctr"/>
        <c:lblOffset val="100"/>
        <c:noMultiLvlLbl val="0"/>
      </c:catAx>
      <c:valAx>
        <c:axId val="813604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24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F5B7-B75C-45FB-8F0B-85C3C52F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959-2CAA-4BD4-BE90-D3AB2E61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2E4-14EF-4F2C-A7B8-27063105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87C-F099-42E1-A12A-AE0A4F3B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21D-4699-4B44-AE25-90544DDF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D82-A0F5-4287-AE2F-F060E04E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44D6-DB13-4EB4-BC7D-E4052D56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C8F-3318-496A-B31F-950DBA3B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46C8-EC70-4564-97FE-49521358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A84-611C-4930-A1F3-E434BC87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DE7-C43F-4EDA-AB3C-91A0EB2D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8B3-9E53-470A-9E9A-43263EFA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9A294-88A7-4822-ACEC-1537BAA4B5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