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83000"/>
        <c:axId val="78417788"/>
      </c:barChart>
      <c:catAx>
        <c:axId val="21383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17788"/>
        <c:crosses val="autoZero"/>
        <c:auto val="1"/>
        <c:lblAlgn val="ctr"/>
        <c:lblOffset val="100"/>
        <c:noMultiLvlLbl val="0"/>
      </c:catAx>
      <c:valAx>
        <c:axId val="78417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83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B3A-8A31-4680-9465-73ACC5B9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734-11EC-434B-88A9-99ACA93F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95C-EAC0-4303-9A43-7EAC53CB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2B3-4400-40CC-B47B-1543D271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814-A2F2-4465-BEAD-003D38C2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A79-2CA2-41C7-A698-DB4EB859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0EF-5FD3-4D77-BF91-6650E60E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625-6CC0-4B11-9998-69569B80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95E-296C-4B58-BF9C-2B7B3848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F8D-2963-4FD5-9414-F125A212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7C6-9774-440D-8EC3-103F2C90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180-7C3E-462A-93D6-7CF60144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34EAE-29D0-43C5-AAC0-48DB5F9528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