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74071"/>
        <c:axId val="51838443"/>
      </c:barChart>
      <c:catAx>
        <c:axId val="98574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38443"/>
        <c:crosses val="autoZero"/>
        <c:auto val="1"/>
        <c:lblAlgn val="ctr"/>
        <c:lblOffset val="100"/>
        <c:noMultiLvlLbl val="0"/>
      </c:catAx>
      <c:valAx>
        <c:axId val="51838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74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2A4-97EF-4E71-92F2-2A92212D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CC6-72DC-4C29-8927-3AAB666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79E-1898-4DDF-A39C-169787BE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FF1-A42E-4687-9A60-9C964305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EDE-C165-45D6-A863-779A394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45E-2ABF-468D-95E1-C666B20A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AD8-32F1-49B0-8C8B-9A61F31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2DA-CB14-4BEA-845D-23E34C37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431-DF9D-4AEB-BBB7-91CDC823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235-EF12-48B5-8BF1-795E4B5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F2D-3688-4999-BD6C-658F749A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623-265E-409E-9EE5-F21B2B7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D467A-4CC6-4B8C-A4C9-9469B6F920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