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87667"/>
        <c:axId val="3171376"/>
      </c:barChart>
      <c:catAx>
        <c:axId val="36287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1376"/>
        <c:crosses val="autoZero"/>
        <c:auto val="1"/>
        <c:lblAlgn val="ctr"/>
        <c:lblOffset val="100"/>
        <c:noMultiLvlLbl val="0"/>
      </c:catAx>
      <c:valAx>
        <c:axId val="3171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87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9E5-04B5-4571-9F84-7D47568C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A30-A4F4-4E96-88EC-7A890DF4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78C-177F-4D4F-BDEE-8AF0BAFE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2D5-CC61-4304-854D-080492EA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EEC-8D1D-42FD-85EA-0724708F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1BF-8E8E-49EB-A7D3-F7604D8E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C30-ABA6-4DC1-A04C-E7E5DB97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128-D902-4678-B472-2339A971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0F7-9D87-4D2D-8262-44F2677F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D01-7763-40AD-8EBA-62CD1455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FBF-3610-4EEB-8850-3C780EE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13C-4949-41FE-831A-C44E86BC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7ABA7-3048-4CF0-9E61-B1D5B4BA08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