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298174"/>
        <c:axId val="91537631"/>
      </c:barChart>
      <c:catAx>
        <c:axId val="952981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537631"/>
        <c:crosses val="autoZero"/>
        <c:auto val="1"/>
        <c:lblAlgn val="ctr"/>
        <c:lblOffset val="100"/>
        <c:noMultiLvlLbl val="0"/>
      </c:catAx>
      <c:valAx>
        <c:axId val="915376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2981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BC1E-9575-4F11-9BA7-4A42EAFE3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675E-CB1B-4DF5-8BFB-421CD2347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6757-F6C7-41CC-A9AA-C1BE9CAD7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CEDD-226B-48DA-95D7-E7BF40996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EFA8-5CF0-4FD9-BC5A-2F7376676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E6B2-CC8E-42C5-8F58-0EF2D0F5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35C7-C7C9-4098-9B7E-BBB42C954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E72E-4DA7-44B6-9082-9B23B70A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64E7-2270-434D-91AC-1F3AB980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9FEE-DF30-478F-83BA-ADB7AA33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4B91-0990-46B9-9040-8A0315A3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A637-6FC2-49B4-8F6E-C4128057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4FFF2-4C39-4CE4-8087-C2E1E132BB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