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08863"/>
        <c:axId val="31052762"/>
      </c:barChart>
      <c:catAx>
        <c:axId val="32908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52762"/>
        <c:crosses val="autoZero"/>
        <c:auto val="1"/>
        <c:lblAlgn val="ctr"/>
        <c:lblOffset val="100"/>
        <c:noMultiLvlLbl val="0"/>
      </c:catAx>
      <c:valAx>
        <c:axId val="31052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08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839-83E9-4B4C-AF95-EA15ED35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DCC-7486-4B0B-9ADB-BD4D5F8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4ED-FBE8-4611-9935-3DF45DB0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89D-1EAB-435A-BB15-09AB2091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8CC-D3EB-4A4A-A1FF-F3106CBA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907-2DA3-458C-A21D-CCB75F14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155-2493-42D5-9CAF-36FC7A0D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657-03B0-45A9-8682-CD18E5DE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110-7C45-4110-A3AA-24331690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51E-4D8B-4275-A5AE-4CF328FE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818-8494-42C3-9005-0A793F3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56E-AE00-45FC-9290-575737E4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FD66C-0A2D-462B-9133-E7EE373DB7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