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72661"/>
        <c:axId val="11780796"/>
      </c:barChart>
      <c:catAx>
        <c:axId val="13072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80796"/>
        <c:crosses val="autoZero"/>
        <c:auto val="1"/>
        <c:lblAlgn val="ctr"/>
        <c:lblOffset val="100"/>
        <c:noMultiLvlLbl val="0"/>
      </c:catAx>
      <c:valAx>
        <c:axId val="11780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72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EC8-D3E5-4A85-B7C4-BFFF20BC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269-505B-44D0-ACAA-B778C0FF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DFB-BD40-4623-ACB6-78591B33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71B-807F-462E-B8F0-29877B8B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901-6BCB-4C4E-9630-C7C9DC86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EF0-0714-41AF-9720-1DD51956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1C6-A0C5-46C0-8426-A784AF0B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18B-1E5B-42C6-98A6-233C6AA2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3EA-B09A-4257-A01F-9CB6CB0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98E-9C76-4967-B2FD-C3064984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040-1DEA-484D-8A83-6B114887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F0C-0FFE-479A-A89C-7380974E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DFEBF-0739-4BFC-9457-91DFD2250B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