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883660"/>
        <c:axId val="4676369"/>
      </c:barChart>
      <c:catAx>
        <c:axId val="158836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6369"/>
        <c:crosses val="autoZero"/>
        <c:auto val="1"/>
        <c:lblAlgn val="ctr"/>
        <c:lblOffset val="100"/>
        <c:noMultiLvlLbl val="0"/>
      </c:catAx>
      <c:valAx>
        <c:axId val="46763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836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6229-D543-4E17-8204-7681D10D5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C1FF-45CB-47B5-A9DE-434FC7A6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0818-1539-4FB7-9B6A-6A944372C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1926-E5DC-4B94-AC0A-8D1524770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A151-9FD7-4402-8F9A-5E3590BD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0DDE-8557-47F1-8DE5-6DEB54A5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30B5-FF71-43B0-8E7E-4878F042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5EB4-04B3-4E28-8132-4D173B35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2FAA-9047-495A-9725-8FDF8264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9112-584B-45AF-A5E8-73A9EB49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6009-C723-4240-A0D9-2D388F2F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6117-C764-4B73-9BEA-ED5897FF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54D92-F9CA-4F21-AAAF-5E5E91DDD2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