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590"/>
        <c:axId val="61910207"/>
      </c:barChart>
      <c:catAx>
        <c:axId val="280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10207"/>
        <c:crosses val="autoZero"/>
        <c:auto val="1"/>
        <c:lblAlgn val="ctr"/>
        <c:lblOffset val="100"/>
        <c:noMultiLvlLbl val="0"/>
      </c:catAx>
      <c:valAx>
        <c:axId val="61910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8F9-7F04-4D8F-A4DC-4CE5B643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E45-14DF-4D5C-AA22-806DAD0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F95-8578-4213-8342-39A7DAFF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D18-B8B5-41C8-8D7E-A3D93E6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D8E-8AA1-4746-A40B-5FC7E11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7D0-7C86-45AA-B05A-75170617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321-E16F-4BC1-840C-07E2989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AC9-58D3-4DB2-9BF9-4620EE7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E68-61A4-4E10-AD04-A60EC79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548-9179-49C5-8D2F-C713C92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F9A-6C1E-42DA-8EC8-63C9B81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3E1-EC6C-4A91-A843-0F6EDB2D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5BD6-BC8A-4C12-8E07-1299256752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