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56498"/>
        <c:axId val="13420820"/>
      </c:barChart>
      <c:catAx>
        <c:axId val="66756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20820"/>
        <c:crosses val="autoZero"/>
        <c:auto val="1"/>
        <c:lblAlgn val="ctr"/>
        <c:lblOffset val="100"/>
        <c:noMultiLvlLbl val="0"/>
      </c:catAx>
      <c:valAx>
        <c:axId val="13420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56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C2D-EE07-4672-A4E0-C9AE360C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5C3-29C4-4BAB-98D8-7567341C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8E8-3377-4D28-8714-245562A7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0B7-8393-4523-894F-233C830C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0AE-65FC-47E3-AC12-ECC9213F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FBE-D872-41F2-ADFA-C307A928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9AE-C5C7-4614-B4F6-DCC52F2C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8E4-36F4-4941-A4D5-086904D4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2B0-91EB-4CA3-9962-25B9A50F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1B4-C5E0-4824-8DE9-12DE0CC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6E2-653F-449F-86CA-BC8D9DE9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1A8-3AB6-4866-B5B4-8303B6D1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AA978-3CB3-4041-A8FB-32EB463A21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