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87388"/>
        <c:axId val="98427640"/>
      </c:barChart>
      <c:catAx>
        <c:axId val="89187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27640"/>
        <c:crosses val="autoZero"/>
        <c:auto val="1"/>
        <c:lblAlgn val="ctr"/>
        <c:lblOffset val="100"/>
        <c:noMultiLvlLbl val="0"/>
      </c:catAx>
      <c:valAx>
        <c:axId val="98427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87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E50-FCF3-4A74-BCB0-2435472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686-BBC5-4D2F-8FBE-C387E88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C80-F334-442E-AD1E-33B02B9B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184-FFBA-47B9-ADCB-41B43252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2CF-FFB7-4000-B843-FD8BCAF8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429-98E7-4796-88A8-A940D6C3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509-A72F-41D7-846B-FE092563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798-1CF8-42FA-87AC-5D59C58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9B9-715F-41EB-8AF7-0DF1A006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F13-FD14-4FD3-B591-197388A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265-8FB5-4330-BE78-6B977AC1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83E-6C6C-47DB-B64D-AD2671D4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998FE-4607-4CA5-BFD8-675C408BCB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