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27847"/>
        <c:axId val="16089903"/>
      </c:barChart>
      <c:catAx>
        <c:axId val="10227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89903"/>
        <c:crosses val="autoZero"/>
        <c:auto val="1"/>
        <c:lblAlgn val="ctr"/>
        <c:lblOffset val="100"/>
        <c:noMultiLvlLbl val="0"/>
      </c:catAx>
      <c:valAx>
        <c:axId val="16089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7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49F-6BF9-49A8-AB7E-3A0FE0D1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15D-A111-44A2-8056-6731618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D45-50A1-4515-8E51-A7BB480B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9F1-D892-4698-AFD6-242F0625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435-FEDA-4F60-8D09-87BE9C7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9F3-CBAC-4C2D-9D03-3616F736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FCA-787E-4B8C-8386-5A7563E6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D61-A31E-48C7-92F8-C3E00B92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1AC-68D0-4321-9B33-4F74DF28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690-D068-4008-AD06-EA5DC55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5FE-2F89-40E9-8A80-AAF91F0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ECE-9147-4A4A-884E-04590D7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C9F48-0AA0-463F-B7FA-030369E8D0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