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33043"/>
        <c:axId val="86721793"/>
      </c:barChart>
      <c:catAx>
        <c:axId val="27033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21793"/>
        <c:crosses val="autoZero"/>
        <c:auto val="1"/>
        <c:lblAlgn val="ctr"/>
        <c:lblOffset val="100"/>
        <c:noMultiLvlLbl val="0"/>
      </c:catAx>
      <c:valAx>
        <c:axId val="86721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33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594-4260-4085-ADDE-B0489C96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655-EF60-4C43-9C04-EC6752DA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53C-CC7F-477D-97D5-EE237594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0E6-5B32-4522-B42C-3A202212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1CA-79D7-4FF9-9715-284967B4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9D5-FF90-40A5-B481-5FB21617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562-6007-4947-BDAD-C4558846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7D7-DAD5-41D3-9751-E524A983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AFC-E168-4BED-8ABD-800C03F9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97E-4F47-44DA-AFBA-E21735E9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33B-A547-4779-A40F-B5C97823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376-C199-46B0-80E9-3CFD6EDF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67A9F-7617-4521-88F2-D023793434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