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12427"/>
        <c:axId val="23587272"/>
      </c:barChart>
      <c:catAx>
        <c:axId val="65612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87272"/>
        <c:crosses val="autoZero"/>
        <c:auto val="1"/>
        <c:lblAlgn val="ctr"/>
        <c:lblOffset val="100"/>
        <c:noMultiLvlLbl val="0"/>
      </c:catAx>
      <c:valAx>
        <c:axId val="23587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2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AD6-5C43-40F4-BDC2-B7BC7106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D55-B87A-4352-9B34-990DA277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EA1-2CB1-49D2-9668-4FBE1A31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558-9E9F-41A8-80E7-564C044A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004-BBAE-4B2D-9EB6-22C30E88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24F-CF72-4718-BD66-F02AE6B9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693-BCE4-4CDA-80B1-8333AB7C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876-1861-4970-A8B0-5223A40F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B16-6FFD-465B-A950-0846BCDD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7CC-8D0C-475A-A6F2-7C0113F1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AEB-EC9C-4C7B-96A7-6DA88A8E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1B9-D09F-4748-BFFF-8255224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0871B-6509-43C0-9E5F-8FAFC9C01B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