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484809"/>
        <c:axId val="17864513"/>
      </c:barChart>
      <c:catAx>
        <c:axId val="544848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64513"/>
        <c:crosses val="autoZero"/>
        <c:auto val="1"/>
        <c:lblAlgn val="ctr"/>
        <c:lblOffset val="100"/>
        <c:noMultiLvlLbl val="0"/>
      </c:catAx>
      <c:valAx>
        <c:axId val="178645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4848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5D2E-8CB0-48B2-94C7-F961AD6A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15D9-7365-45F0-B9C7-0A7F2B51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0F16-C87B-426D-8955-8D14004BF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9746-EA40-469A-9CB0-BF8F46F0B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22B3-7D54-43BB-A2E9-FD3927CD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D6BE-1450-43D5-A0A9-7405ED39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F6A2-6C1F-45A4-8302-646FDFBC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D5B1-AE10-4E0B-8173-4F762328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5846-C312-46D6-B9A8-BE6D73CA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6C60-87D2-4BBA-8707-04D028AF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9D40-746D-4EF4-921E-EE2CBF53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C619-00F9-4670-B473-1368256D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86BB7-2219-4503-BA59-835A0D457A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