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62578"/>
        <c:axId val="92471373"/>
      </c:barChart>
      <c:catAx>
        <c:axId val="87162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71373"/>
        <c:crosses val="autoZero"/>
        <c:auto val="1"/>
        <c:lblAlgn val="ctr"/>
        <c:lblOffset val="100"/>
        <c:noMultiLvlLbl val="0"/>
      </c:catAx>
      <c:valAx>
        <c:axId val="92471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62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53E-240E-4C88-BEA6-AF453EA2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8C4-D2A5-472E-9FA9-C063A503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4D4-E8EF-424B-BCF2-ABA445F2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415-3869-4943-B655-BCAA4FF6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33D-FC5E-4027-9050-B33CF548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955-022D-4E8D-9839-E61219EC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8A7-6A91-48FC-8222-EBF51369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152-3742-4C22-B655-FB999A73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7CC-27CA-4372-82A5-60F006CE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637-E955-483B-9C19-E2FCADB0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D15-853E-4CA5-B7A3-2377432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C88-DF5F-4B09-8BEF-ADD245E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34732-4A2B-40D6-91F9-9A67E64C1C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