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31647"/>
        <c:axId val="6068385"/>
      </c:barChart>
      <c:catAx>
        <c:axId val="43831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8385"/>
        <c:crosses val="autoZero"/>
        <c:auto val="1"/>
        <c:lblAlgn val="ctr"/>
        <c:lblOffset val="100"/>
        <c:noMultiLvlLbl val="0"/>
      </c:catAx>
      <c:valAx>
        <c:axId val="6068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31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D91-8062-4983-874C-3C01259F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C17-2757-4773-AB70-BD41D277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49F-DB26-4D16-90FC-FA58799B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147-96B6-472A-ADF6-0A7C8985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A4C-4E49-4E74-8BE6-51467A00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00B-E26C-4C6E-9369-9EB9FF25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787-A534-4720-89AB-5D55155A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48E-C167-4A73-99A2-5B9D2541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FD1-8A5A-422E-BDF6-9B3ABE5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901-2CEB-43FB-AA45-1C0A64A7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9ED-8245-4395-930B-6595580E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FF5-7379-460B-B545-9B2AF2E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DD141-253B-4E9D-A0E1-294D3FEC37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