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37503"/>
        <c:axId val="17611751"/>
      </c:barChart>
      <c:catAx>
        <c:axId val="99937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11751"/>
        <c:crosses val="autoZero"/>
        <c:auto val="1"/>
        <c:lblAlgn val="ctr"/>
        <c:lblOffset val="100"/>
        <c:noMultiLvlLbl val="0"/>
      </c:catAx>
      <c:valAx>
        <c:axId val="17611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37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C0E-CAD6-4CBC-85C5-969008BC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0CA-4924-4142-A874-5F8BD367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296-B324-4199-931D-653F8CC8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7FC-A973-4378-AA48-BA180A8B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CEA-C31C-4CF5-96BB-5837D329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3E3-D766-4365-B773-9B4A41BD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3BF-D017-4566-B6C5-7B8D3CDA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BD2-022A-473B-AC4A-13773C4B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A93-4CCE-47FC-A31B-A22539CD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E99-CC69-47FA-9F0B-686D7D4E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DCC-5432-4595-B19C-884A53DC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9A8-D8AC-4364-ACD7-F1E835EE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C29A4-E1A6-4793-87B2-5BAC17B0E1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