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9325"/>
        <c:axId val="48986768"/>
      </c:barChart>
      <c:catAx>
        <c:axId val="1869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6768"/>
        <c:crosses val="autoZero"/>
        <c:auto val="1"/>
        <c:lblAlgn val="ctr"/>
        <c:lblOffset val="100"/>
        <c:noMultiLvlLbl val="0"/>
      </c:catAx>
      <c:valAx>
        <c:axId val="48986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6D7-E071-45B7-94C1-8892C553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775-3C5B-41D5-9104-7A24672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D6F-A3D7-495D-89EC-81CC98E8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08D-062B-4306-B6CE-927C3267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84C-C115-419A-A384-98E9BBB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1C-0B6D-43D8-A39B-4F0E054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8D1-C021-45C0-A05F-64E1136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1FE-E7A4-43C8-937C-CB5CE9BB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0BE-965D-455E-B5B3-FD8209D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EBA-C741-4FC7-8600-F2BB33E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58B-1CC9-487C-83A5-D93869A4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E78-63D2-419F-AB31-1EC234E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9B3A1-DE03-4B6F-977C-9820429F43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