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9361329"/>
        <c:axId val="87994076"/>
      </c:barChart>
      <c:catAx>
        <c:axId val="4936132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994076"/>
        <c:crosses val="autoZero"/>
        <c:auto val="1"/>
        <c:lblAlgn val="ctr"/>
        <c:lblOffset val="100"/>
        <c:noMultiLvlLbl val="0"/>
      </c:catAx>
      <c:valAx>
        <c:axId val="8799407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36132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F074-2B2B-436A-8BBA-36F088146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0D58-47FA-416F-85C7-7204C6AC5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9AB1-DB34-4953-9119-5467E4334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23B5-D9D1-47CD-9E6C-FD1029829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9157-6DD2-4DCB-917E-5BB0F818F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7F5D-1CD3-4D3C-9270-6CFA7C122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5D85-3D95-455F-A05E-40133C07D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2EC9-CAEA-4F61-8B90-56A8029AE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7987-22F2-47C8-BC12-3DFD28A3E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377A-0D4F-448D-81AF-C8BD9E27E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2D3C-E93A-4F9B-8B93-D39F98B61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2DE4-33EB-4D55-A85F-67FD70863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1DCCAF-408A-4DAC-81AE-85DB0AFB37E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