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41930"/>
        <c:axId val="37645950"/>
      </c:barChart>
      <c:catAx>
        <c:axId val="36141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5950"/>
        <c:crosses val="autoZero"/>
        <c:auto val="1"/>
        <c:lblAlgn val="ctr"/>
        <c:lblOffset val="100"/>
        <c:noMultiLvlLbl val="0"/>
      </c:catAx>
      <c:valAx>
        <c:axId val="37645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41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E42-A2E6-4FD8-94AB-15ECC3D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FDF-5F8D-4DF5-8F91-A59BBD39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D74-B1A3-43E5-AC8D-9AADEB77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A71-F401-4F56-83FB-1F921493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39F-2340-4592-9FD2-4532F35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A91-583D-49C9-9605-E6DA3B32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F7A-3514-44B2-9BD4-A54B8F5C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54D-C4B7-41B1-98C5-5A19103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AA7-24D3-487A-B494-F349067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CCD-8510-4AE4-A066-20053B50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5E0-E503-489F-917F-AA21A1F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C5D-01EF-4441-BE17-5C0BD5A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BC07C-DC4F-4A85-86A2-24635BD6ED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