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1992478"/>
        <c:axId val="43098617"/>
      </c:barChart>
      <c:catAx>
        <c:axId val="5199247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3098617"/>
        <c:crosses val="autoZero"/>
        <c:auto val="1"/>
        <c:lblAlgn val="ctr"/>
        <c:lblOffset val="100"/>
        <c:noMultiLvlLbl val="0"/>
      </c:catAx>
      <c:valAx>
        <c:axId val="4309861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199247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C3CB9-D8A9-4B7A-B475-61BA26E04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7CA72-CFB2-42D7-9BC6-C8500388A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DE4B0-C404-40C0-A262-5C1526CA4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F79F7-2432-499F-9B03-78C4CD813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1EA64-0659-447F-ABF4-418A665F0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09E49-0ABF-4A57-BA10-E022206CB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D5F67-248B-4EEB-98EB-97C757999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BE7DD-9D82-4C96-BEA6-90E096198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AE27C-9E28-41C9-8EDF-152C26639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1D9C8-1ACA-4A7D-B6E9-7C9E9266C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B8445-0FBC-4D7F-B1F0-D0793C236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F3D9A-7A3D-4EB4-B304-D84E694C3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E633F3-6711-4921-9D29-CE432E592F4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